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C63C-0418-433C-8A84-2862075856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977A5-0C9F-4FB1-90DC-47DDFD6B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D589F-E9FD-4DF9-BCF7-F1CB5189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8F4D4-D9F0-4457-AB35-C61169F3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6DF65-CD58-4705-ABC1-191E5219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0A203-1A29-494A-B762-248ED4FC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5B3BB-7A69-47CC-959A-08F5D773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02AE6-55F7-4CFE-960C-118BFD2F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107C2-2C64-4AEC-B3D4-FE2135A8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D3192-1E5F-4E0D-B958-5B89220D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AEA38-60E2-4AE5-A3C3-A82794BEEE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17A74-1436-41C0-AAD4-254FDB95CB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8406-DDB6-4E94-9C43-D8E9C8EB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3F781-A6D4-482F-A506-C438666F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B1F855-4D7C-449C-84B6-02CD427A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5D459-0FE6-484D-9E0F-6D733CA8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B74C0-4D99-4EB0-863F-34FBF56B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F46CA-C2A1-452F-9E91-46DB0303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A8F64-1A24-456C-ACE1-5871F05A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2F5CC-2E31-4F77-87D4-198DEC80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E8296-8D72-471B-BD30-D08AA614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C26C0-4B78-42FD-A399-1D45DB49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9A8C2-FF3D-4E7B-945C-1DC8806E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BF45-9972-4033-8D80-306CF53572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396C2-B451-4686-B320-E5429D25EA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63AEB9-EDFB-4A60-89F1-94A8D3D227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49DFAA-D4BD-4A85-9D29-72440B52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2710C6-C883-4BD2-92BA-82B912E8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08B067-C78A-4A59-8A6A-9A9157AE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CE679C-3036-4A03-BB0D-70744AFB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F2167B-6969-418E-A32E-4C902D51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9BFAE4-CF53-445D-9D01-A9B2C495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CD96BD-E375-47E8-AFC3-ED458D7D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387D77-0673-4BDD-B5C8-74EE9AC1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FD3-E315-473F-BD76-68D3E91DC0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25C4EF-982F-483A-BE4E-6D00B6F3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18E89F-7DB7-41C9-BB04-EAFD8EA9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F6B637-FC9C-4A98-82FB-9DD72C039A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AD420-2BB8-4212-9187-8EA9965503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F2528-94B8-48CF-960B-2397C313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3A4AA-E8E0-4472-892B-19141546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CFF3F-C0F9-4C20-AEBB-039B7101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E6AE1-B15A-40F2-9154-A7BDBC18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343FC-0294-4453-85C2-58920C0A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2332A-8FEE-44E4-AA85-8FE83B28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D59-DDE0-4104-AC9A-87706148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AA2EA-B019-4E20-946C-2682FDAF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5BC02-E32B-47FA-A709-52960897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C63C5-AD27-4156-904B-A550366C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E53A5-45A5-4ACC-A5CB-B41C0C8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293A7-22DB-4A01-BFC4-14C4158B4F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36DCE1-585D-4FBD-89FB-6A90F2E2A5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A42BDD-29CA-45DB-BB41-88FDA1BB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A8D91C-3AF5-4F3D-BFCF-5DE750CF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6ECE67-5B0D-4622-9FEB-DD7AAAC5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907A88-90DF-4D9D-81F2-33AA9C5B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2EC-BB92-4E27-B0FA-445A6BF1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F65003-0E64-43F6-A185-5BA4C56B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C465B4-1341-4C78-9402-053D3569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75B6C4-7909-46C4-A67C-E12085FD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923B17-85EF-43B9-9B4C-A8B61606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EB2560-71FD-455E-9840-1C31B548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8C79B2-F442-44A4-8EAB-072A9F1E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EC9FDA-7D0C-4BCF-BEED-9067696C45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D9C41-08B0-4572-8546-69EB915C74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79BF0-EDBB-4FA5-9130-BB1CBEC9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2331F-C5D5-4375-B8A9-D72A4D8A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910-93F8-49CC-98EE-C4EEA090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14108-7C3A-4C9E-952C-0E4AA4CD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D7AE2-15CD-4E01-A4C5-582037CF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61B34-852F-450D-8AD5-A1604003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E1DB7-A23E-4A58-8922-9BAA906A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A5741-53A5-4585-93C3-3A87BEA7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50049-F25B-481C-BB0D-846FC366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2F0A3-DE97-4C15-8084-3CDB5E4D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48226-D83C-4DBD-953D-E9C3221F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DE12A2-0012-4CB6-AF46-2990B23A29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102CE-0254-44CC-8715-1F363CCEB0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3A3-7D38-4B2B-B4D7-BF3C2FA1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9FBBD-1941-4EB2-8ADD-86D08220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565C2-8F5C-4544-9145-20D128A4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71AD7-FD71-4AFC-8F20-0818384B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35E11-13CD-4ACB-ACB5-38B162AD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2BB40-12D3-4924-B81D-3602A63E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4F561-E8B2-435C-BE19-7C0B7F44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8A066-8F03-4506-BDEF-DC25942E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FE2DA-9FE1-426D-AE4E-566BDDA8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A896A-C02F-40F1-8840-72DFC94F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751EC-6BF9-4AD9-A910-EE12435B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03F-6402-46F4-8067-F4769115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769A4-6A0A-4986-A7FF-0C61B4802A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BE4152-4DAA-4FD6-A768-984442EE82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8FC421-7181-45D0-8F0C-31DB4A06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FD53F7-D56B-4240-AAC2-49A68CAC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161E6A-0A0B-4E66-8742-FFC3D2CE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9A371A-5CD6-471F-ACF4-E4E32505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4AA4D2-3B7D-4BD8-947D-A5A5B613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4E7246-E8E0-47CE-8B61-E5DC82FC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A70704-4FFD-42B3-AC5E-70E2DEC7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372A84-8A5F-46AD-8E97-564C1919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476-1441-4C77-87E9-18228111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41A1D5-A1EE-4870-9BAB-A27C4A30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027597-1B5A-43A0-B901-8868430D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A424BD-C61E-41D4-BC72-D331B81EF4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F2FD0-C07D-4868-AA82-DC2F5A71F1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EABD2-4B36-471F-ABB1-F5CDBCAB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5AD7F-8DA5-4DC8-A756-58BB3EB0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ABB00-1E5E-4C1A-87EE-A1306F2A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FCE13-F114-4C01-BE9C-B2DBDAFC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7DC24-C73E-4307-BB1E-1669B59C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BE17C-3A2E-4A5C-A9B0-619296D5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CD0E-4C9C-455D-B2F2-23B4FA7A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533-8F76-4546-B337-D7DF6AA7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4BEEF-BEC7-45BF-A121-290EEE36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22D70-D816-43FC-972B-66DEA7BE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87B10-8E55-4488-908C-578D5C11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790E9-54E6-45CC-A45A-41584C12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D0A7A-1FFE-4AD8-8FF3-E070B666C9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C7B-E754-4474-9AA2-0AF9B1CA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C2F-16F8-42D6-8F14-AE9A21AF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7E8-6D8F-44F1-A8B1-8A534138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85A-4EE3-4739-B432-048001EB2F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CEFE-863D-4533-A1EA-1F88ED93E0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8399-3E37-4C18-870A-E36231B3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061D-8E1C-4101-81C3-814B163B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D603-DF1A-4762-8A62-683118A2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8D63-4F2F-4440-B447-AAB4B5DC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0E94-832A-46E2-8121-CCE6A00B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5845-1489-48AA-8468-2D3B0422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5D5F-8CC4-4DA1-A793-465AB7FC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C62F-3F06-4A16-B1EB-D9EEC0BD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472C-A67F-4BE0-B30B-01684060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FAC5-E458-47CF-A5A8-8C9E7B23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EB2D-00F0-4A87-BC25-29FC62B3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B648-A9B6-43A8-819C-777A1396F6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107AA-409C-4E01-97ED-5600290F4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688A4-5E39-4708-8C12-30D242F3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83936-2E37-4B9D-8782-9B1627F3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7617-739A-4BFA-AAEA-0661CA46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F62C1-8971-419D-BE80-FBF7DE05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97FDD-B531-4305-AC09-AD55950A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C052D-3422-4108-97E3-D01FFBDD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54C62-C9A6-441C-8EE8-2360794F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E2C47-DF7D-4B39-908F-B5B046A7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0276D-C1CF-473F-9993-E1BE4679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EC345-D412-4BF6-BFED-571F04FB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ADCB1-4ADC-4D89-8078-D5FA2C9C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5F246-B58B-4605-B20F-0BF0258F37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2E99A1-AF73-4197-83F7-0718DE7098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6FB0-B558-4CF6-9E76-5F46F1E1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84CD1C-5ADE-48F2-B743-AEA4AC32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68F1F-E17C-409D-BF87-428D7964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B0EF44-1CED-4A43-A3EE-6EBC205A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29144-B37F-4D53-9FB0-0E4957C0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269BC3-3B0E-4128-80AB-21C0C14A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0CA0FC-BF8F-482A-902B-D0717F7A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D4F51-AFEC-41E1-AA5D-5DED9DF2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09177-97D2-4081-A600-7D7488FE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0E4A2-B831-4E4A-8615-506934A1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DFFE8-F908-46C4-832C-A2BEFC77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EA94-C651-40AE-A8BE-C71B8FE9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9E1CF8-8280-4D07-8DF6-2484065E4D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1E697-8650-415A-9D3B-C4856554EF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AD31-2112-4FF3-BB3F-457DC45A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166D-1872-4CCC-BA42-F0694015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4448-7337-45C6-B76D-743E4596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31EC-3D7F-4CF0-ADFB-DA415F22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4842-9A56-43C4-B9F7-D22516B9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54E8-86C1-42E5-B9CD-8CABF585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89255-09CB-48C6-A95B-A0D112B4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137E-B660-4F30-95CA-D7DE5385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7231-ACBF-4906-AF85-40A1901B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CBD2C-79BF-4C2F-BEDB-C16DC08E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50099-84FA-41A5-8440-66D0B735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99D0D-FA09-4932-BA13-405EFA4706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A2E6F-AEA1-48B4-AF32-61494F51FE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78BDB-635B-473C-967D-17E84BF5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21E96-803E-481E-AE90-4C750CBA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59BD9-0493-4300-A759-9F7F9E36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0DCE0-C668-422D-964A-41D65F96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7ACD4-CCE0-4B08-9B3A-44230564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A08AA-0D5F-4F27-9BA4-E4D53D76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CCC3C-C33D-402D-8A8B-26803B25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09AFD-2BE8-4F28-B019-885ADB52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A64CE-95B5-42F8-A6C2-855F6A6D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11C2B-F147-4036-824A-80A7A961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4822D-C4BE-42EE-9A4E-01A638CE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6342D-4E82-49C5-A9EE-35A4FF13C3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47D761-E4EA-4931-9AD2-1D9AB2AE3D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F93F84-877B-4FE4-AC93-C91CEC41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711950-BA08-4056-9CD5-F6A38B05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67D784-1805-45A5-8772-9D802915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347A4E-3F47-4A9D-8737-F263702F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AC1A-F1D5-4D5C-8500-1A473486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172800"/>
            <a:ext cx="75819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845615-8E8F-4DDB-8DCC-CAEB23F8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1F25C8-85D6-400D-BC00-79A25B2C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161269-A1CA-438D-B9FA-EA10ACFE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413D1A-82FA-456B-BEF9-C9D7CF8E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6600"/>
            <a:ext cx="75819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4BDA1C-F2C9-4213-B384-D910ED68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160" y="18288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160" y="4026600"/>
            <a:ext cx="3699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D06D12-5C33-44C3-831C-621EC144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60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160" y="18288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60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160" y="4026600"/>
            <a:ext cx="24411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67E6CF-5AF3-46C1-A5B9-07CEA5E0E5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5D433-5E69-4D3F-B491-963BC392F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0BA7A-C554-48EC-9DD1-40543C6D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813B9-6AE9-4534-84DD-852C7EB3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E8594C-EAA1-449F-920F-71E4C09B0A59}" type="slidenum">
              <a:rPr b="0" lang="de-DE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0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6885E0-4316-497E-BE22-581AC9FD00E5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1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2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D5630D-AE19-465D-A6B5-763AAB2A0377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3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4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B1F67C-919D-4FB0-9CBC-28ABD9B27D6F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25"/>
          </p:nvPr>
        </p:nvSpPr>
        <p:spPr>
          <a:xfrm>
            <a:off x="388584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67280" y="6240600"/>
            <a:ext cx="2676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26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E9C2E9-9C6C-4D36-8F0B-CC1B0C6A593A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7"/>
          </p:nvPr>
        </p:nvSpPr>
        <p:spPr>
          <a:xfrm>
            <a:off x="380520" y="6288120"/>
            <a:ext cx="186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25680" y="6240600"/>
            <a:ext cx="521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28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4A8A70-8D22-40F8-830E-4AFB72BD217E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29"/>
          </p:nvPr>
        </p:nvSpPr>
        <p:spPr>
          <a:xfrm>
            <a:off x="380520" y="6288120"/>
            <a:ext cx="186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25680" y="6240600"/>
            <a:ext cx="521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sldNum" idx="30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EE3997-9C91-4266-A8FA-30056E0E404E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sldNum" idx="32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9C9514-9B9D-4F9D-9A4F-44E56D1514FC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3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34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202792-97FD-4A0B-8EAC-E9E733159A42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F3C428-A56B-40A6-80BD-2D8A90254BE6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F1FEF4-8360-4806-9F80-9C2559A1B59E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8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EDB2F5-ED47-4A2B-8429-A9926C656CFA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9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0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51F211-22A0-49A1-9409-52183CD0F18F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1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6E6CBE-EB2B-40CC-87CB-5171DA64128A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4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14B6EF-E086-4BCC-918F-06E0575C1FE3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5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6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5738A4-6229-45EA-93A4-489730A32479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172800"/>
            <a:ext cx="75819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19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7"/>
          </p:nvPr>
        </p:nvSpPr>
        <p:spPr>
          <a:xfrm>
            <a:off x="380520" y="6288120"/>
            <a:ext cx="188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22/0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05160" y="6240600"/>
            <a:ext cx="523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18"/>
          </p:nvPr>
        </p:nvSpPr>
        <p:spPr>
          <a:xfrm>
            <a:off x="8403840" y="218880"/>
            <a:ext cx="4921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3C455B-53F2-4DCB-9A89-B8B40A36690C}" type="slidenum">
              <a:rPr b="0" lang="de-DE" sz="1200" spc="-1" strike="noStrike">
                <a:solidFill>
                  <a:srgbClr val="1b3861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60020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rebuchet MS"/>
              </a:rPr>
              <a:t>M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rebuchet MS"/>
              </a:rPr>
              <a:t>Übung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rebuchet MS"/>
              </a:rPr>
              <a:t>Grupp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Focus Group Interview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77940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Trebuchet MS"/>
              </a:rPr>
              <a:t>Szenario: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7940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1720" y="1619280"/>
            <a:ext cx="6578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rebuchet MS"/>
              </a:rPr>
              <a:t>Ich muss hier weg! Für alle die spontan einen Urlaub nötig haben, oder wissen das sie möglichst Günstig in die Sonne möchten – nur nicht woh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rebuchet MS"/>
              </a:rPr>
              <a:t>Internet-Angebot, welches günstige Urlaubsziele in Reichweite des Nutzers abhängig von verschiedenen Kriterien auswählt → Ausgehend vom Wohnort des Benut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77940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Trebuchet MS"/>
              </a:rPr>
              <a:t>Feat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7940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1160" indent="-281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rebuchet MS"/>
              </a:rPr>
              <a:t>- Benutzer gibt Wohnort ein, bekommt Reiseziele vorgesch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rebuchet MS"/>
              </a:rPr>
              <a:t>- Filterung angezeigter Ziele aufgrund Kriterien (Budget, Zeitraum, Wetter, Entfernung/Reisezeit, Umweltbelastung, Sehenswürdigkeiten, Freizeitaktivitäten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rebuchet MS"/>
              </a:rPr>
              <a:t>- Anzeige auf Land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755640" y="295200"/>
            <a:ext cx="7380360" cy="625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77940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Trebuchet MS"/>
              </a:rPr>
              <a:t>Weitere Feat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7940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rebuchet MS"/>
              </a:rPr>
              <a:t>- Seite schlägt günstige Reisemöglichkeiten vor, Vermittelt Mitreisende (Auto: Mitfahrgelegenheiten/Car-Sharing sowie Zug: Gruppentickets, Ländertickets) und Couch-Surfing-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rebuchet MS"/>
              </a:rPr>
              <a:t>- Profile ermöglichen es Kontakt zu anderen Reisenden aufzunehmen, Mitreisende zu finden, Routen zu veröffentlichen, Tipps zu 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77940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Trebuchet MS"/>
              </a:rPr>
              <a:t>Zielgrupp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940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rebuchet MS"/>
              </a:rPr>
              <a:t>- Schüler/Studen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rebuchet MS"/>
              </a:rPr>
              <a:t>Menschen die für wenig Geld Urlaub machen wo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77940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Trebuchet MS"/>
              </a:rPr>
              <a:t>Frag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7940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20720" y="1440000"/>
            <a:ext cx="758340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ie viel Geld gibst du im und für den Urlaub au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Hast du schon mal im Reisebüro deinen Urlaub gebu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Hast du schon mal im Internet deinen Urlaub gebu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ie lange brauchst du zum Planen deines Urlaub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as ist das Anstrengendste beim Planen (Freunde motivieren, Unterkunft suchen,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An-\Abreise planen, etc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as ist für dich das kleinste Zeitfenster zwischen Planung und tatsächlichem Urlau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77940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Trebuchet MS"/>
              </a:rPr>
              <a:t>Frag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7940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0720" y="1800360"/>
            <a:ext cx="7583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elche Art von Unterkünften bevorzugst du im Urlau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elche Länder bereist du bevorzu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elche Reiseziele interessieren dich am meisten? (Städte, Strand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Mit welchen Transportmitteln fährst du in den Urlau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ürdest du mit Fremden in den Urlaub fahr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ürdest du mit Fremden Urlaub mach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enn du im Urlaub bist, welche Freizeitaktivitäten verfolgst d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77940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Trebuchet MS"/>
              </a:rPr>
              <a:t>Frag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7940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20720" y="1800360"/>
            <a:ext cx="7740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Ist die Grundidee der Seite verständlic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as ist deiner Meinung nach das Hauptfeatu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Sind deiner Ansicht nach wichtige Features vergessen wo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Fallen dir zusätzliche Filterkriterien 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as kann sonst noch verbess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as gefällt dir besond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as gefällt dir nich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Würdest du eine solche Seite 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30360"/>
                <a:tab algn="l" pos="1544760"/>
                <a:tab algn="l" pos="2459160"/>
                <a:tab algn="l" pos="3373560"/>
                <a:tab algn="l" pos="4287960"/>
                <a:tab algn="l" pos="5202360"/>
                <a:tab algn="l" pos="6116760"/>
                <a:tab algn="l" pos="7031160"/>
                <a:tab algn="l" pos="7945560"/>
                <a:tab algn="l" pos="8859960"/>
                <a:tab algn="l" pos="977436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rebuchet MS"/>
              </a:rPr>
              <a:t>Kennst du Leute, die ein solches Angebot nutzen würden? Wenn ja wie vie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11:33:30Z</dcterms:created>
  <dc:creator>Daniel Fritsch</dc:creator>
  <dc:description/>
  <dc:language>en-US</dc:language>
  <cp:lastModifiedBy>Daniel Fritsch</cp:lastModifiedBy>
  <dcterms:modified xsi:type="dcterms:W3CDTF">2009-06-16T06:12:48Z</dcterms:modified>
  <cp:revision>2</cp:revision>
  <dc:subject/>
  <dc:title>MMI</dc:title>
</cp:coreProperties>
</file>