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6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5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5CEC2-64EF-4115-9076-CBFBEA640E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9400" y="402408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B59F9-9928-49C3-A11C-95B06CC9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696E2-917D-483C-AB04-1B923905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3732A-FF14-43E7-A389-14550188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779400" y="169560"/>
            <a:ext cx="75787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035DC-D044-4535-8EFB-6D92C8F75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6C04B-CFAA-4B9F-B6BA-0E721D81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308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59C20-D5D7-4D10-9721-677C7970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0D666-2BC6-462A-95F0-FCF3AD4A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79400" y="402408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CA1DB-0DF5-47F8-821A-4E00DEE2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308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2FAE0-2721-41CE-8200-333122BE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4188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36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7940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4188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0436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BE6DE-55BC-48EA-AFCC-2B53D9B2DF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981709-F987-4065-99B1-23659831BA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08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6D16F-A31B-4E6B-B1EA-3014DAA5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3182D0-ADF0-454B-A2FF-BE7FA183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D922E5-8AFE-487F-B679-3A6E75A6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9E755E-B294-4362-8C65-A3BA0188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E9C7D3-D840-41BC-8682-EC99C2ED3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779400" y="169560"/>
            <a:ext cx="75787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141003-1EC6-4371-89C3-FD9BE4784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F6CC9A-FDAF-4A30-967F-32CD747F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308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401A73-BD38-4275-85C4-A453880C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49856C-6C6F-485B-8772-F7359CB3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779400" y="402408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124A0C-51FC-43D8-9DAA-763EA621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308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C8FBC7-B3CC-4747-8EE8-227F4447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188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0436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940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188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0436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29F64-FDF1-4F12-9737-47047F05A0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4188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0436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77940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4188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0436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CEDBC3-E182-4BD2-BDE5-2446775C60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C23894-E846-4BA1-B2CB-33A1A0B044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45F0F1-985B-46BD-9B31-60E99EC7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A585FE-0880-45B9-9683-EC95EFC1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FE59AD-AC94-4B4A-93D3-5B3947B4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543DE8-03DF-47FB-BDFD-DA118055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779400" y="169560"/>
            <a:ext cx="75787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AAD197-EF02-4952-A931-9FAC0D679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882EA2-FA9A-4DEE-98AD-20F2EE42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308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D05DB2-A9BF-43C1-BFF7-8DE7379E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0BAA6C-1C9A-4DC2-BF8B-5AB33E80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0E08-A688-4594-90FA-7BB5DBC858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779400" y="402408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376FEA-4D21-4D71-ABB3-20131C03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308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389FF3-AEED-45A8-8818-4022E42D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4188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0436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77940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34188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0436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DF4035-FEA1-4FE0-825E-6A6526CECE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7339F-68A3-4E1B-9873-E756E81277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56B53-77E1-4384-A0CA-9A51D3B0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F6B4B-C998-4FEF-A436-4DE9183B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D8FFB-87DB-4022-9146-AF0B219F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2063F-F3E6-45F6-A853-FCDF1F19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779400" y="169560"/>
            <a:ext cx="75787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6C47F-6D48-4E98-8241-5A5BE259C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49FF5-9123-4650-AD57-2A69898F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021C-B3EC-48FE-903C-5A6554D8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6308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47065-C45D-4C9F-AC49-018FBDFC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015B4-5A06-4B78-B81E-145F81AE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779400" y="402408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61824-1D22-4D12-96CD-84B91867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6308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8582E-774A-44F4-B9CA-8F99CECE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34188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0436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77940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34188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0436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9EA3D-F59F-42FC-BDD3-E1BD1C474C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345E3E-0948-4A27-BD94-BEF03406FA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F4E947-836F-49CA-946C-99B1D561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DE6141-68BD-4291-B0B9-D0E687CA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A68027-DB4A-496F-A8C2-0EF8028B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A9739E-29B4-43F8-A010-486FE699E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8339-2696-4620-9BAB-14EDD015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779400" y="169560"/>
            <a:ext cx="75787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25C309-BDED-4ABF-80BF-092E77F1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1B4B54-1938-49B1-A652-A96F1AD3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6308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F70B1F-9B28-40AB-A591-0BA3565A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B09BE6-2611-4944-AC49-45CB564C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779400" y="402408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17E982-4992-45E7-A064-421262F2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6308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CF4C81-ED98-4746-B969-C2B46E3D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4188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36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77940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4188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90436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56A3FB-B2C3-4604-A976-05DD561A02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357EC3-6C80-416E-8767-7311A16115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CC1952-3541-4F06-915E-4FF73776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B76ABF-2C37-40AA-BA4B-4698D4E8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A685-DA1A-469E-87F5-E175924D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8BCAAC-3B52-4D34-8995-346FDBE6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B5CCC1-87D7-4E62-A7C4-77C9B7276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779400" y="169560"/>
            <a:ext cx="75787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7761E6-D108-4374-83AD-ACEC537F7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6F86F7-103B-43AE-BCEE-1838A4A1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6308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43F610-330E-440C-BA76-B92AB24F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2B5F75-DA0F-4A71-8CF4-A925B1C9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779400" y="402408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A22091-6673-4E17-921D-28DF733A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6308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5EBB2B-D467-423F-9B32-5D99429F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34188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90436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77940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34188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90436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A488E9-6416-4163-8524-9AF2DE1400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443E4-3FA9-4450-8A0C-3038549449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710E-3082-4F52-AE1B-CACE1589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DB627-05BC-4803-8519-09F14D51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C6EAE-38FA-4DEE-A5B6-6F64C096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2169F-AD9E-47FB-8FD8-B83BF34C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00F93-E84F-47D7-BD2C-A8D3C5DF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779400" y="169560"/>
            <a:ext cx="75787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C2126-1A40-483D-98A7-1AFD0E1BA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64FCE-FF14-41FB-8E55-12F48950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6308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D7772-9AA7-401C-A906-26B29258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ACB22-5187-48D9-BA26-C0FB9E32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779400" y="402408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175D5-B95A-4772-9D3A-9216FDEF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6308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2FAA3-0FF7-47A2-92C0-EFD5FCBD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79400" y="169560"/>
            <a:ext cx="75787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1C13-E473-485D-B87A-9CC76EC73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34188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90436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77940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34188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90436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DE4BD-5E26-433B-B3AA-B51DE062FB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5C5F44-538F-4557-9E8C-FEE273883E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FA1710-4B43-49EA-9FDA-17E13A44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0A21DD-F040-4645-ABA7-05C90150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0D0732-33DA-4BA8-9BCD-E9C5F87C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A97D82-F124-4299-A849-3ED3AFAFC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779400" y="169560"/>
            <a:ext cx="75787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05632E-6B03-4597-A334-9167352D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7F5775-1C52-4B8C-BC3B-BC4D5974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6308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8BA0BC-C923-4824-BB35-E09A978A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93F57E-3C5D-44D2-8961-B09FE4C5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6372-417F-46A8-94FC-8F442E96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779400" y="402408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EC6F13-B511-46A9-892A-77AA18EE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6308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B82924-434B-4BEB-AECB-9DABE0C9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34188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90436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77940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34188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590436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C7DEA0-F47B-4786-95B9-B00AA8F970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A41B21-58C2-44B7-9A35-BD0BC43137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0A5515-A680-4388-801A-02192724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D3E48D-E191-4944-BF70-58978FE7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9F0E2E-265E-47B1-A23B-40E8F44C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03A021-21B9-43FD-9A56-8D1C941E0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779400" y="169560"/>
            <a:ext cx="75787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CCC946-6908-4996-8793-EFCF364F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85FD11-A8F7-41E2-B60C-56E3677D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B2076-8F31-43BE-940F-E5C62ED8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308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4641-51C0-4914-A868-7132921F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6308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0EB148-B9A1-4B0A-BF98-6435DBE2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4C1660-3E51-46E3-9350-D39388BC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779400" y="402408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FEC8AE-6C5C-4D9B-8211-382C029F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6308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EC82CD-4E17-439D-85FD-86510669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4188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90436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77940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4188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590436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3241CB-02CE-4BD2-A5DB-D80E45C078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D2FD-9D7C-4C46-A19E-A008BAF7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79400" y="402408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7B97-5227-4F30-AD85-67120186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308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A1F5-6C5C-45AE-A00F-8ED98C1E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188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0436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7940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188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0436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32EC-AFD2-48CB-BA13-0242A9DF4F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E1C5-EA6E-4ABB-98D2-C7F9AC1C65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8956-5733-4094-B1CB-5A9B2165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29D5-90C9-4A1D-8069-B68CCCD4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5E62-79A1-4623-965B-ED6383D9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18C3-66F7-49BE-BBE8-F86289842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C15E8-11B7-40F8-A345-D2905E5E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79400" y="169560"/>
            <a:ext cx="75787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0363-A15C-454C-A4A7-80F4997F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5E17-E19F-45DC-B182-99A43E9A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308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FABB-4DE6-4EF1-B221-0A8F70B3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A092-8B53-471D-8C4B-D41324D7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79400" y="402408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1636-2A3C-4BF4-BA03-638F00A1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308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D381-BEDB-4B3C-B3E8-5B67489A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4188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0436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7940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4188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0436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7433-0AFF-451F-AA35-A7B9ECA2AE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3640F1-98C5-4E44-B207-4FF455C079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3AEA23-7C58-460D-B64E-214B272F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197C19-E678-43C8-A89D-779AE2DF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26EA5-8F1C-407B-86E0-B446A647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4D41DE-527A-42D3-99D4-704E3346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2A3A55-D9E2-43DD-8682-FC3D7A47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79400" y="169560"/>
            <a:ext cx="75787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47CD20-B7B5-44B9-A456-AB20834C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C731B1-7E3D-43F4-9FC2-E77B0A29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308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1E1C45-E047-4447-8A61-1D040404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7BAE4A-8CF6-4B62-ACA0-7B879D4C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79400" y="402408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4B3A0C-6A82-41B2-9558-8B670168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308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C12A5C-C4C8-4CCC-B73B-C5F8C67F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4188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0436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7940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4188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0436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CC5F30-1788-4FBA-9BEF-EE6860BD5F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E75208-74EB-487C-9DD5-97D678B427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3FFE4-4D5F-41D0-92C8-5E85BD3E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F46872-3AE0-4D89-81F9-40263564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637FF2-DBC4-438B-80D0-13678B1D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93D876-D82D-42CF-BA69-330F97C8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D701EC-B494-4ACE-9362-E453ACD7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779400" y="169560"/>
            <a:ext cx="75787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BAA55D-F08E-4146-A616-34C247B7D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844A27-340D-4227-A714-54CAFB00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308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0CA2BA-BDB1-40CE-A6AD-0D65CA67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4D2D1A-D921-4CB9-8687-B4474720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79400" y="402408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06C1BD-2229-4540-9ADE-8B034C32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308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E43828-BF9E-4F8F-8CD7-BF153892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9400" y="169560"/>
            <a:ext cx="75787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AE18B-D51D-4FBE-AF5B-FECC67E99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4188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0436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7940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4188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0436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AF2A1B-E35A-49EB-A697-128831C0C1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8FD07-2BB0-4B18-85A3-B04AE3D95C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12349-EAF6-4D0C-B80D-FD899983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C690D-9309-4312-8D10-574B4AD9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0FA50-6259-4DCB-8498-5EE18EEB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F6752-E162-42F1-A3BD-A1797466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779400" y="169560"/>
            <a:ext cx="75787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00B49-B2D2-4C55-9C6F-08979A18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8F0BB-C1FB-478D-A415-4F16538F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308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BED75-89F6-450F-A6F0-D6DA1B89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40EAB-2B7B-4B01-A19E-06130D58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4EFDE-767B-4221-9C5A-33575129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79400" y="402408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5529B-3672-416C-9988-D5E28851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308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AC54D-86BF-46E0-BE38-D1953C9D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4188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436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77940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4188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436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5CC9C-DB13-437B-BF3F-9CB119AEDA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97C08D-7DA8-4E2D-88C9-D8AF63DB4A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8D969C-632C-4490-BE58-81BCB106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E6156E-55F8-4C52-949F-7291E19E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989E5D-222A-4707-BFB8-EB708E20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9EA71D-7429-496C-824B-DED899137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79400" y="169560"/>
            <a:ext cx="75787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5C145D-AAA7-4CDC-83AC-6BBA58CA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2DF15E-286F-461A-9C50-68BF1AFF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08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EE5A0-C6C9-4261-836D-ADE97075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308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8FA66D-21BD-4FF9-B079-44E137EF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269CCF-1CF3-4132-8694-1BBB8FE9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79400" y="402408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214DCC-2219-4F30-BCB8-8BB73EA9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308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255E5B-5686-4A59-92D6-DA06E323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4188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0436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7940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4188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0436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4039C4-C52A-47B2-975A-C13663E8A5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ED21DE-6B44-4C91-B5CA-FA3ACA3AB4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225F78-09B3-469F-939C-E9D8BA58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5BECAA-FD02-44E7-B94D-07882C7A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3A6009-CAB4-41FA-9E4D-A73CFF63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0FB256-A0B4-4ADE-9AE6-69A94D4D1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F1BB4-9937-4F6E-A7AF-89C224D5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79400" y="169560"/>
            <a:ext cx="75787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7673B4-8E97-4381-88CE-0E674045A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BE79B7-3936-4144-B6A7-84D3DC36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6308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C75740-8F33-4056-A574-BC9CF966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12620C-7BDC-471B-8902-881B8D80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79400" y="4024080"/>
            <a:ext cx="757872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39D6E0-8725-4AD0-9F2D-1561C3F2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3080" y="182844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7940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63080" y="4024080"/>
            <a:ext cx="36982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705ED7-D4E0-4496-810E-BF540D16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4188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04360" y="182844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7940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4188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04360" y="4024080"/>
            <a:ext cx="24400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6CFEF8-6ADD-4AF5-8697-167EAA225C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934C6-3658-47FB-A74C-1A832F3FC2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54326-1AEF-4EA3-9F43-F4C3E165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8C6D3-73F6-45AC-8710-F6A1DF17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287760"/>
            <a:ext cx="1882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22/0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05160" y="6240600"/>
            <a:ext cx="5238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404200" y="218880"/>
            <a:ext cx="4888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81142-8839-495F-BB38-C9B2C7D605C2}" type="slidenum">
              <a:rPr b="0" lang="de-DE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19"/>
          </p:nvPr>
        </p:nvSpPr>
        <p:spPr>
          <a:xfrm>
            <a:off x="380880" y="6287760"/>
            <a:ext cx="1882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22/0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305160" y="6240600"/>
            <a:ext cx="5238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sldNum" idx="20"/>
          </p:nvPr>
        </p:nvSpPr>
        <p:spPr>
          <a:xfrm>
            <a:off x="8404200" y="218880"/>
            <a:ext cx="4888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EAFAD6A-FBD9-4E99-8791-BA46F55DC41B}" type="slidenum">
              <a: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1"/>
          </p:nvPr>
        </p:nvSpPr>
        <p:spPr>
          <a:xfrm>
            <a:off x="380880" y="6287760"/>
            <a:ext cx="1882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22/0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305160" y="6240600"/>
            <a:ext cx="5238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sldNum" idx="22"/>
          </p:nvPr>
        </p:nvSpPr>
        <p:spPr>
          <a:xfrm>
            <a:off x="8404200" y="218880"/>
            <a:ext cx="4888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90A0AF8-4CFF-4D64-B78A-52750875A52B}" type="slidenum">
              <a: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3"/>
          </p:nvPr>
        </p:nvSpPr>
        <p:spPr>
          <a:xfrm>
            <a:off x="380880" y="6287760"/>
            <a:ext cx="1882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22/0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305160" y="6240600"/>
            <a:ext cx="5238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sldNum" idx="24"/>
          </p:nvPr>
        </p:nvSpPr>
        <p:spPr>
          <a:xfrm>
            <a:off x="8404200" y="218880"/>
            <a:ext cx="4888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B4C29F0-0F32-4514-B2C4-60B5B5B5059A}" type="slidenum">
              <a: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449280" y="187200"/>
            <a:ext cx="8535960" cy="64836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25"/>
          </p:nvPr>
        </p:nvSpPr>
        <p:spPr>
          <a:xfrm>
            <a:off x="3886200" y="6287760"/>
            <a:ext cx="1882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22/0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867280" y="6240600"/>
            <a:ext cx="2676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sldNum" idx="26"/>
          </p:nvPr>
        </p:nvSpPr>
        <p:spPr>
          <a:xfrm>
            <a:off x="8404200" y="218880"/>
            <a:ext cx="4888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81757F6-8844-4AEC-8E10-83F4BABF8AC8}" type="slidenum">
              <a: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27"/>
          </p:nvPr>
        </p:nvSpPr>
        <p:spPr>
          <a:xfrm>
            <a:off x="380520" y="6287760"/>
            <a:ext cx="1860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22/0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325680" y="6240600"/>
            <a:ext cx="52182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sldNum" idx="28"/>
          </p:nvPr>
        </p:nvSpPr>
        <p:spPr>
          <a:xfrm>
            <a:off x="8404200" y="218880"/>
            <a:ext cx="4888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580BAB7-0465-48CE-8E6D-87B357D4D8B8}" type="slidenum">
              <a: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29"/>
          </p:nvPr>
        </p:nvSpPr>
        <p:spPr>
          <a:xfrm>
            <a:off x="380520" y="6287760"/>
            <a:ext cx="1860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22/0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325680" y="6240600"/>
            <a:ext cx="52182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sldNum" idx="30"/>
          </p:nvPr>
        </p:nvSpPr>
        <p:spPr>
          <a:xfrm>
            <a:off x="8404200" y="218880"/>
            <a:ext cx="4888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BE173CC-34C6-48F9-B571-3740B7DD3741}" type="slidenum">
              <a: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31"/>
          </p:nvPr>
        </p:nvSpPr>
        <p:spPr>
          <a:xfrm>
            <a:off x="380880" y="6287760"/>
            <a:ext cx="1882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22/0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305160" y="6240600"/>
            <a:ext cx="5238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sldNum" idx="32"/>
          </p:nvPr>
        </p:nvSpPr>
        <p:spPr>
          <a:xfrm>
            <a:off x="8404200" y="218880"/>
            <a:ext cx="4888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0D5BB9-DC1F-4DD4-A023-791713FEB155}" type="slidenum">
              <a: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33"/>
          </p:nvPr>
        </p:nvSpPr>
        <p:spPr>
          <a:xfrm>
            <a:off x="380880" y="6287760"/>
            <a:ext cx="1882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22/0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305160" y="6240600"/>
            <a:ext cx="5238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sldNum" idx="34"/>
          </p:nvPr>
        </p:nvSpPr>
        <p:spPr>
          <a:xfrm>
            <a:off x="8404200" y="218880"/>
            <a:ext cx="4888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CE6B9A9-A736-4094-905C-89FA5DFBA7A7}" type="slidenum">
              <a: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8404200" y="218880"/>
            <a:ext cx="4888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99F3319-5552-4976-8BF7-0E1648B72A30}" type="slidenum">
              <a: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380880" y="6287760"/>
            <a:ext cx="1882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22/0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05160" y="6240600"/>
            <a:ext cx="5238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380880" y="6287760"/>
            <a:ext cx="1882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22/0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05160" y="6240600"/>
            <a:ext cx="5238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8404200" y="218880"/>
            <a:ext cx="4888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423D0F-51D6-4CC7-8648-1B1A7668CD3F}" type="slidenum">
              <a: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380880" y="6287760"/>
            <a:ext cx="1882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22/0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05160" y="6240600"/>
            <a:ext cx="5238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8"/>
          </p:nvPr>
        </p:nvSpPr>
        <p:spPr>
          <a:xfrm>
            <a:off x="8404200" y="218880"/>
            <a:ext cx="4888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69F6CC6-9E27-4CEF-98B5-3F094FD0C267}" type="slidenum">
              <a: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9"/>
          </p:nvPr>
        </p:nvSpPr>
        <p:spPr>
          <a:xfrm>
            <a:off x="380880" y="6287760"/>
            <a:ext cx="1882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22/0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05160" y="6240600"/>
            <a:ext cx="5238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0"/>
          </p:nvPr>
        </p:nvSpPr>
        <p:spPr>
          <a:xfrm>
            <a:off x="8404200" y="218880"/>
            <a:ext cx="4888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86019E-8D8B-4F41-90B4-2186E8460784}" type="slidenum">
              <a: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1"/>
          </p:nvPr>
        </p:nvSpPr>
        <p:spPr>
          <a:xfrm>
            <a:off x="380880" y="6287760"/>
            <a:ext cx="1882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22/0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05160" y="6240600"/>
            <a:ext cx="5238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2"/>
          </p:nvPr>
        </p:nvSpPr>
        <p:spPr>
          <a:xfrm>
            <a:off x="8404200" y="218880"/>
            <a:ext cx="4888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6A0B4A2-F49F-4F64-B687-788CD7D1C774}" type="slidenum">
              <a: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3"/>
          </p:nvPr>
        </p:nvSpPr>
        <p:spPr>
          <a:xfrm>
            <a:off x="380880" y="6287760"/>
            <a:ext cx="1882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22/0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305160" y="6240600"/>
            <a:ext cx="5238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4"/>
          </p:nvPr>
        </p:nvSpPr>
        <p:spPr>
          <a:xfrm>
            <a:off x="8404200" y="218880"/>
            <a:ext cx="4888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A803B07-FAED-4BFB-BFBF-608E3D34C640}" type="slidenum">
              <a: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5"/>
          </p:nvPr>
        </p:nvSpPr>
        <p:spPr>
          <a:xfrm>
            <a:off x="380880" y="6287760"/>
            <a:ext cx="1882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22/0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305160" y="6240600"/>
            <a:ext cx="5238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sldNum" idx="16"/>
          </p:nvPr>
        </p:nvSpPr>
        <p:spPr>
          <a:xfrm>
            <a:off x="8404200" y="218880"/>
            <a:ext cx="4888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AEF824-BFDA-4770-BD07-8698A033708A}" type="slidenum">
              <a: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79400" y="169560"/>
            <a:ext cx="7578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9400" y="1828440"/>
            <a:ext cx="757872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7"/>
          </p:nvPr>
        </p:nvSpPr>
        <p:spPr>
          <a:xfrm>
            <a:off x="380880" y="6287760"/>
            <a:ext cx="1882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22/0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305160" y="6240600"/>
            <a:ext cx="5238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18"/>
          </p:nvPr>
        </p:nvSpPr>
        <p:spPr>
          <a:xfrm>
            <a:off x="8404200" y="218880"/>
            <a:ext cx="4888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2DB090D-EB2A-4816-BF34-7F272497C1DE}" type="slidenum">
              <a: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1600200" y="2492280"/>
            <a:ext cx="67626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rebuchet MS"/>
              </a:rPr>
              <a:t>M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600200" y="3967200"/>
            <a:ext cx="6762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rebuchet MS"/>
              </a:rPr>
              <a:t>Übung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rebuchet MS"/>
              </a:rPr>
              <a:t>Grupp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spcAft>
                <a:spcPts val="4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Concept Eval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77940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800" spc="-1" strike="noStrike">
                <a:solidFill>
                  <a:srgbClr val="ffffff"/>
                </a:solidFill>
                <a:latin typeface="Trebuchet MS"/>
              </a:rPr>
              <a:t>Task: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77940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801720" y="1619280"/>
            <a:ext cx="657864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1231920" y="1830240"/>
          <a:ext cx="7048440" cy="411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1830240"/>
                    <a:ext cx="704844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77940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800" spc="-1" strike="noStrike">
                <a:solidFill>
                  <a:srgbClr val="ffffff"/>
                </a:solidFill>
                <a:latin typeface="Trebuchet MS"/>
              </a:rPr>
              <a:t>Teilnehm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7940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rebuchet MS"/>
                <a:ea typeface="Lucida Sans Unicode"/>
              </a:rPr>
              <a:t>Es wurden 3 Teilnehmer aus der Zielgruppe ausgesucht, ein Medieninformatik-, ein Mathematik- und ein Physikstu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rebuchet MS"/>
                <a:ea typeface="Lucida Sans Unicode"/>
              </a:rPr>
              <a:t>Einweisung; „Think-Aloud“; Vorstellen des Tasks; Testen des Projektes, nicht der V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539640" y="539640"/>
            <a:ext cx="3600720" cy="270036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4751280" y="48564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3"/>
          <a:stretch/>
        </p:blipFill>
        <p:spPr>
          <a:xfrm>
            <a:off x="539640" y="3600360"/>
            <a:ext cx="3600720" cy="270036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4"/>
          <a:stretch/>
        </p:blipFill>
        <p:spPr>
          <a:xfrm>
            <a:off x="4859280" y="360036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716040" y="546120"/>
          <a:ext cx="7729560" cy="57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546120"/>
                    <a:ext cx="7729560" cy="57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" descr=""/>
          <p:cNvPicPr/>
          <p:nvPr/>
        </p:nvPicPr>
        <p:blipFill>
          <a:blip r:embed="rId1"/>
          <a:stretch/>
        </p:blipFill>
        <p:spPr>
          <a:xfrm>
            <a:off x="539640" y="1979640"/>
            <a:ext cx="3222720" cy="270036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/>
          <p:cNvPicPr/>
          <p:nvPr/>
        </p:nvPicPr>
        <p:blipFill>
          <a:blip r:embed="rId2"/>
          <a:stretch/>
        </p:blipFill>
        <p:spPr>
          <a:xfrm>
            <a:off x="4680000" y="1822320"/>
            <a:ext cx="3240000" cy="32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" descr=""/>
          <p:cNvPicPr/>
          <p:nvPr/>
        </p:nvPicPr>
        <p:blipFill>
          <a:blip r:embed="rId1"/>
          <a:stretch/>
        </p:blipFill>
        <p:spPr>
          <a:xfrm>
            <a:off x="360360" y="1979640"/>
            <a:ext cx="3979800" cy="270036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2"/>
          <a:stretch/>
        </p:blipFill>
        <p:spPr>
          <a:xfrm>
            <a:off x="4508640" y="1979640"/>
            <a:ext cx="4130640" cy="27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5T11:33:30Z</dcterms:created>
  <dc:creator>Daniel Fritsch</dc:creator>
  <dc:description/>
  <dc:language>en-US</dc:language>
  <cp:lastModifiedBy>Daniel Fritsch</cp:lastModifiedBy>
  <dcterms:modified xsi:type="dcterms:W3CDTF">2009-06-16T06:12:48Z</dcterms:modified>
  <cp:revision>2</cp:revision>
  <dc:subject/>
  <dc:title>MMI</dc:title>
</cp:coreProperties>
</file>