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A29B5-BF20-45AF-BF38-5F0D802B7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73060-A7C3-4399-AEA6-C7F962116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A00C42-1044-45CC-9FF1-BB599CE523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2F3E6E-A445-49D0-B97D-132022740A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2ACF51-4BBD-4004-9B5C-808BAE105E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B97DB2-CAF5-4D9E-896A-D154052A41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87BA15-3A3D-49B9-BD38-C5640CA9CF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B644DC-AF21-4399-A18A-892629EF7E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BC6650-E38F-48D9-9594-3321BF7193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4B8E15-1E06-41F9-B15B-7073711542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147249-647C-4462-A5E1-B33B411541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09C66B4-6963-4A20-A0C4-120F9C5CB5C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E3498-CC22-4043-A55D-5E6E6526B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DCFF5C-BAF0-4508-89EB-305BCD8A21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80AA96-21C9-4201-8178-7F5C93B51A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3C0E43-D1F7-4BDA-9CED-19E52694F0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109991-61F8-42F0-8EB5-B84FEDD38A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EB1AF1-BDB2-40F1-AEA1-310AB237AD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3FB267-3447-4169-9D64-544DB4BAB7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005CE4-59E4-4073-9A6F-52A2B87FA1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44F6C9-A726-44DD-914E-02AFC0C928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89FF3D-BA1A-408D-86D0-276212C5E6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8742FF8-E9D3-4ABE-9A40-EE15EFB008C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3C2CC-584E-483F-8392-83161264D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165525-1154-4438-A706-540BDF9AFBB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D0DF66D-D065-46F6-86CC-C276FEF312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5476C3-0905-476E-AD67-4C440A27B9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057FA7-8BD3-4D67-A55F-4FC66B2625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D33934-4D49-4D2C-94C8-665C4BCEDC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070FFD-CF6C-402A-B2E8-7EC58D7EF3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9599A2-03F1-42D6-9FA3-5A43E81C02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6171EA-5468-4FAA-A348-32849C27E5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88F444-15AE-45A9-B1FE-4A74128724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22B45F-505E-46BC-816C-446C329853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1EC2B027-D3CF-4A27-9F79-D8D5B94B491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18D534-AE7F-4F9C-A3CA-59424BDB3F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1E9CAFF-89C4-4009-BC87-24C0F521287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3725442-466F-448C-BD8A-F3BEEFDA36F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8954365-E518-4921-9964-EB84056BB63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E8CBD7-CFED-4C67-B797-342E10877B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6698D6-5D86-453D-AFF3-6304EA0F4A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3B6758-FABB-4C2B-AFA5-001A2544C3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0FAF61-E28A-47DF-91DF-87899EDB94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CBDDEB-8271-447D-857E-4082095076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4901CC-F3FE-455B-991C-F4B4097A30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342EA454-D810-4876-8B8E-1BC6F547130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1B5AC6-34E7-4C1A-B3AD-E514CEA056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742378-55A7-404F-8082-1D8F6AAB94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98FD25-CBE3-42A3-BEEC-9EDF42E305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517CDE3-E190-4492-A888-8C6812130E8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91C2687-9070-48AD-8FD7-2FD3700ED19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35EDB56-49D2-4C29-841B-EAF84A868E0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0EF3C20-F5B9-4545-8163-4B77CA0249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87CD657-22D1-42D0-9917-B7A0E55936E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2BC8650-D833-4932-9B61-DE7DD188FA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DFC7F74-FD47-4851-B2C7-7E85BF5F09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9F153721-A4D5-47E9-9AA5-0F4278D4E5E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8027786-840C-405F-9C13-B4CF88F49D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94A6FC-4B10-4D7A-9BF0-F883F379A6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8AAD4A-58F1-4DC7-9D98-C15380185D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7A8845-A943-4D75-8EF6-F0160B7D2D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0F2E273-02B0-41FC-AE2D-F433F534D6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2800948-B733-4A16-884D-FEE8AE8FC45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E936B78-4FDE-49C8-ACDF-3D03797D1E8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EEDFD6F-0196-4836-B3AE-D25E90B805F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7CC4CD0-E4DB-4773-876B-552D2220F13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DA92CCA-C54D-4C78-A15F-0E50E386591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86E1C223-2B5E-4208-95F0-360802317BD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D940BA0-7BDE-44D8-8C8C-C71B02EB7A4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FA90BF-3840-4E00-BA4A-E3358F95C5C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A8D6C96-335C-4F80-B727-CC527FD606B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DC618F2-B1A3-4121-96B2-61D5A30ED3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AC545A7-4C12-416D-9B82-12089BA105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96419C-3129-44B6-9CDF-0892DAC65D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2EC9106-48B8-4F99-88E8-6C371EDC1C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0B0A59F-1146-43B9-A1FD-1963C0E0FD7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2F65930-AB39-4574-8EA3-E6A1BC156B6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0D1AB77-B3EB-4AE7-9C58-DAAA2D33B4A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2C2BEBD0-31A9-40E4-83ED-85F54790D47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17B8BAB-8BF0-4117-A4F3-8C6AED6E324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056F8BA-9CFD-44E3-BDF9-1ECB8E431AE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9CE0E83-E65B-4464-8B89-3123F16B64E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ECB8E61-8F0B-48DD-BAA4-2098F81406C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1FC57A8-D1E5-4E11-A8DD-8B70F60D91F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0AF043-3B2F-4D3B-89C7-3F040139E1C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B95A4D-FAC3-4FDF-8BCE-2AD6AFE4BE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35252E0-0E27-410D-B2DC-CF335BE953C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82F0774-7A21-4FCB-AD8A-3F5F3A3439D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DFE48DF-4F1E-4C99-B80B-EF5EF36FA0E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4F754391-41A1-41E7-98C9-4F7E24977F0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A30613B-DFF6-4EAF-A67F-8F163E1309B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E5925BA-F727-486B-86E2-248A7D0112C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E91EF08-3579-48E2-A34E-41A36702A9D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C75114D-607E-4A4A-8C8D-461350E6840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EC3DDFC-1152-4E99-85C0-6F1A6AE73F2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6437B2E-BB71-41E2-B6B1-4085F363B16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1995A57-4025-4698-A501-1CAEF761BA0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885F927-070F-46B4-9B03-72AC38B9DAA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97C4801-3252-4DAF-8221-FD31B4BEB8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40DEAEF-7BCC-4EF9-9D27-24F9A4DD693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515731B5-894A-48E2-8C85-F8FA627B8AE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A65D8B8-DCC5-48FE-AA0C-30CB3266DB4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39FB498-945C-4E98-9EF3-248144DE58B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6D711B2-4C4B-4D73-B0CA-49B51C9A8F7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30EBC07-206A-4520-84EB-80637D5BF92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ED76115-01EE-43EB-AB72-EF627FCF681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C678478-F43A-4D11-8D0E-EF424D8CC44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2C6133A-9658-4088-BFC1-27C651A2575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4BC235D-F45E-49B4-B2E4-E53818ADED5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A87C95F-50B0-4CF5-B651-50963FDE136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1A7D90E-5800-4691-8694-C2946123B2D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DD022-A8D9-4C91-A135-ACB17DC04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E75A705-1D4C-4AFA-9B25-6AE6AA3D78B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379B264-4E7D-4C1D-8601-15539A72991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516F59E-026B-47E4-95E1-05C74F6A456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A32EDD4-D897-4E93-8087-E523361F1FF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CD28C3A-4596-4826-BFB7-856FA8AA281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4E39265-448A-4898-AE05-D2EA38ADF0A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98492E26-1FC9-4B60-9CD6-EEA3EAD5C24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03F83E14-6AB2-4017-9B0A-9C66F096A68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9C030088-02C9-448F-8B94-8F082A8DFF0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19ABF1EE-2409-4ADC-9415-61821DB626F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9FD816-E429-4076-910D-63B7FF82A6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A28253-571C-4F4E-B075-D48689792A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5E1C13-370E-46F5-B57A-44C485B5DC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F995BE-0340-4507-8162-322A8CBA23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8F46A6-8EDA-4E0B-8F98-26100C92F9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BF978-B6FC-4566-A760-F694673D8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88634B-5B48-46C6-B457-1C5B5B5DC4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B824C3-A4A2-45DF-BA26-0B6D6878E5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87BC6F-BDC2-44F6-BC2E-52922AD03D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8C503E-1458-4143-A87B-3ECCAFC6FE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E1BB6B-56DB-4B44-BE4F-E891FC7687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73CFDE-0671-4686-9034-4A87B16F94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0DFE88-E749-4F9A-A82E-7979A4C24E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281472-0FE0-462B-B249-E4B442FF5F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B43E0D-1ADB-4250-AF4B-44400E0E85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C096BB-A4B7-4083-96CC-8F102DBE5C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48A91-7AD4-4B9E-8C65-546E486A8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AA9E67-8E7B-4292-B7D7-264CA03152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C13CA2-C663-4FB7-98CB-F2F869413D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70D850-F2C3-4764-AB34-B1AD9C0760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BF016-6281-4FD5-84C7-CF10E3402E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DF1AD3-5E37-4E72-B4C1-AE4C5BA514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A9393-464C-410C-B1B6-5099732D5C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2B6597-1B7C-449D-98FD-E22EA818F0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482417-FDF8-4B4F-9E9A-77FFAB5C6D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95C10D-D39F-4B99-A778-E29EF4FD80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8672DF-33BA-4C34-9D8A-556980669F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33528-FCBA-4F56-A48D-B24EE3234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390A37-EA45-4FB6-86B0-CA256140F8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4CB293-71F1-4491-B51E-882DD82033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3DA052-BB6D-49D8-8014-031D57F976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E097AD-3D36-4494-B78D-3D92B1C471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1BE711-3071-4B9F-9C76-5001CE19DE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5AC5AD-9612-43CE-AA32-E4836F68BA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A61C13-CE99-4110-9CB8-F5E9DEBBCA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190304-8D92-47AA-ADDF-E05A583925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432F75-9A05-4841-A4F3-A138654FA6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9FC5D7-259A-4E7A-A04C-F196CECC15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7E3D7-650F-4CAC-8AEE-6ECE7A47D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C502EC-8772-4AF5-8F7E-A202F09017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E10A4B-187C-4037-BD25-628E38EF6C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AAD922-CD94-474E-BD66-EDB0EC7B52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3BC8B3-9AD1-4290-873E-6E3972E558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C8A5F0-FD92-4112-BAD2-71F6DE78EB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72EED2-73FA-4FA3-96D6-8194B5468C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A9EAF0-9642-41AC-B08F-011788CAFF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2948E0-CC32-459D-A245-4F0FF2AC35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E7D568-0A41-4397-8C45-D035DABE2D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5694F7-DE35-4E34-952B-66F87E3D01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B8ABF-4382-4760-A088-B647AE998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2896E1-9C10-4BAC-B642-A4EE753530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97C098-CDB3-4E52-9EB9-309E47AC14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74C536-84F0-4EFB-8064-3604D44BC5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77DF70-F99B-436A-9D4A-3E0F5C4809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302B55-D8D4-4E22-86C5-6D97A4FEF0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32FA26-5BDC-4A98-A0CD-465306CFE2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F9ABAC-9A0D-4B22-883B-557EEF6580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A59515-FF0C-4416-B96A-0665376338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4086C4-0961-43BC-B6E3-A8F8EBF0DF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36959B-C739-4853-AB5A-B2D7E66999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54BB8-9559-46BF-93BE-9DD59E679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AE1034-2235-4B0F-9B98-4CE238FAFB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FB8712-05A2-4051-91DA-5FA7C6BE33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3E0B2A-BBAC-424E-855F-8BCD2EFA30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F3ED35-816A-42B6-B4CB-FAD0035677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BFFEB9-49C1-4CE2-A4BC-E32174F67A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C3B86E-8644-4AAD-AD56-88CAE85DC8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9623F7-0031-4D7D-A6E9-6A5F40623F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894BD3-2181-4E9E-BEB2-6028BA05A0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1B46A8-C1D1-476D-99B0-2BDE1DCFF7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799F92-EEFE-4E0F-B66E-844A7B16DE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A2DA2-95C6-4FBE-8FEB-AD248744B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411740-F779-4077-A322-D45BE1C858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365CB5-2B2A-4E68-A0A1-83A26BA204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A02AF0-F76B-4BFE-91EC-53522448E8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BA9DEF-7BD3-40AA-B0EA-16D0B0EEDE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F09133-54D9-4F11-828A-2A3AD960DA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52B40C-6BB4-405B-BB3F-E125C39AB7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2EACB1-5079-42CE-8C5F-8E45CE4D87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04D246-07DE-4839-B984-79B71EFE2F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2DC25F-4EB4-4FEC-B243-0D88B6C6D8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C67836-3385-4242-8B71-F6ED76B1622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629A9-9A33-4438-B0B8-4C4853F6987B}" type="datetime">
              <a:rPr b="0" lang="it-IT" sz="1200" spc="-1" strike="noStrike">
                <a:solidFill>
                  <a:srgbClr val="38abed"/>
                </a:solidFill>
                <a:latin typeface="Trebuchet MS"/>
              </a:rPr>
              <a:t>31/07/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54400E-85A0-4568-8746-33C362239DEC}" type="slidenum">
              <a:rPr b="0" lang="de-DE"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91" name="Picture 5"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1CD02-E963-46E1-9FD6-5147F708094D}" type="datetime">
              <a:rPr b="0" lang="it-IT" sz="1200" spc="-1" strike="noStrike">
                <a:solidFill>
                  <a:srgbClr val="38abed"/>
                </a:solidFill>
                <a:latin typeface="Trebuchet MS"/>
              </a:rPr>
              <a:t>31/07/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75E6B-F54E-44A2-9899-2619FF47125E}" type="slidenum">
              <a:rPr b="0" lang="de-DE"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34" name="Picture 4"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D88B4-1431-4EAB-ACF5-5D16FFD98BE6}" type="datetime">
              <a:rPr b="0" lang="it-IT" sz="1200" spc="-1" strike="noStrike">
                <a:solidFill>
                  <a:srgbClr val="38abed"/>
                </a:solidFill>
                <a:latin typeface="Trebuchet MS"/>
              </a:rPr>
              <a:t>31/07/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8963CB-2EAF-4E3C-8257-00CD1CE0DDB5}" type="slidenum">
              <a:rPr b="0" lang="de-DE"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E1798-1E74-49C1-8E2C-F7511C6BFFC1}" type="datetime">
              <a:rPr b="0" lang="it-IT" sz="1200" spc="-1" strike="noStrike">
                <a:solidFill>
                  <a:srgbClr val="38abed"/>
                </a:solidFill>
                <a:latin typeface="Trebuchet MS"/>
              </a:rPr>
              <a:t>31/07/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B30B34-1DFB-4B21-A7D4-B7B629C6F6C2}" type="slidenum">
              <a:rPr b="0" lang="de-DE"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86855-C280-413B-A150-B74376ABBB9B}" type="datetime">
              <a:rPr b="0" lang="it-IT" sz="1200" spc="-1" strike="noStrike">
                <a:solidFill>
                  <a:srgbClr val="38abed"/>
                </a:solidFill>
                <a:latin typeface="Trebuchet MS"/>
              </a:rPr>
              <a:t>31/07/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01527-88D7-4D16-8128-6A60B497D3B5}" type="slidenum">
              <a:rPr b="0" lang="de-DE"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563" name="Picture 9"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DC6B7-60A1-4EC9-A02A-48FA2A0D63CE}" type="datetime">
              <a:rPr b="0" lang="it-IT" sz="1200" spc="-1" strike="noStrike">
                <a:solidFill>
                  <a:srgbClr val="38abed"/>
                </a:solidFill>
                <a:latin typeface="Trebuchet MS"/>
              </a:rPr>
              <a:t>31/07/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6944C6-4755-499D-9A9C-D9E7E0CDBF1A}" type="slidenum">
              <a:rPr b="0" lang="de-DE"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06" name="Picture 9"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5EBB1-62C0-4115-A089-CC8B359F9A33}" type="datetime">
              <a:rPr b="0" lang="it-IT" sz="1200" spc="-1" strike="noStrike">
                <a:solidFill>
                  <a:srgbClr val="38abed"/>
                </a:solidFill>
                <a:latin typeface="Trebuchet MS"/>
              </a:rPr>
              <a:t>31/07/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FCA99-6764-4612-8545-9E0D4A6ECA50}" type="slidenum">
              <a:rPr b="0" lang="de-DE"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49" name="Picture 7"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9AD569-4BDE-4CAF-805A-591260CAC082}" type="datetime">
              <a:rPr b="0" lang="it-IT" sz="1200" spc="-1" strike="noStrike">
                <a:solidFill>
                  <a:srgbClr val="38abed"/>
                </a:solidFill>
                <a:latin typeface="Trebuchet MS"/>
              </a:rPr>
              <a:t>31/07/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FCC7E5-7FA7-4E95-A81A-580ED1D881C5}" type="slidenum">
              <a:rPr b="0" lang="de-DE"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92" name="Picture 7"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8A04CD-F7D3-4653-8E95-FAC54516AD1B}" type="datetime">
              <a:rPr b="0" lang="it-IT" sz="1200" spc="-1" strike="noStrike">
                <a:solidFill>
                  <a:srgbClr val="38abed"/>
                </a:solidFill>
                <a:latin typeface="Trebuchet MS"/>
              </a:rPr>
              <a:t>31/07/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25F1E2-1642-4FCF-8073-223710283BC7}" type="slidenum">
              <a:rPr b="0" lang="de-DE"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3" name="Picture 7"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F3AD60-DE8A-43EE-9BE9-D3F503E9FF26}" type="slidenum">
              <a:rPr b="0" lang="de-DE" sz="1200" spc="-1" strike="noStrike">
                <a:solidFill>
                  <a:srgbClr val="1b3861"/>
                </a:solidFill>
                <a:latin typeface="Trebuchet MS"/>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F5C0A-1AE3-42F1-BC27-22AF13B7F2E0}" type="datetime">
              <a:rPr b="0" lang="it-IT" sz="1200" spc="-1" strike="noStrike">
                <a:solidFill>
                  <a:srgbClr val="38abed"/>
                </a:solidFill>
                <a:latin typeface="Trebuchet MS"/>
              </a:rPr>
              <a:t>31/07/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86" name="Picture 7"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880F63-DFD6-4321-966D-5CC6D12338DD}" type="datetime">
              <a:rPr b="0" lang="it-IT" sz="1200" spc="-1" strike="noStrike">
                <a:solidFill>
                  <a:srgbClr val="38abed"/>
                </a:solidFill>
                <a:latin typeface="Trebuchet MS"/>
              </a:rPr>
              <a:t>31/07/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F875D-4E91-451E-A781-92DD82AA72AF}" type="slidenum">
              <a:rPr b="0" lang="de-DE"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29" name="Picture 7"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7D02E6-2D60-4E21-917C-B771CC6E8322}" type="datetime">
              <a:rPr b="0" lang="it-IT" sz="1200" spc="-1" strike="noStrike">
                <a:solidFill>
                  <a:srgbClr val="38abed"/>
                </a:solidFill>
                <a:latin typeface="Trebuchet MS"/>
              </a:rPr>
              <a:t>31/07/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2062BF-A7E7-486F-903D-9D95A6065E73}" type="slidenum">
              <a:rPr b="0" lang="de-DE"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6910F-10A4-4A59-AD6D-32C59D6FB608}" type="datetime">
              <a:rPr b="0" lang="it-IT" sz="1200" spc="-1" strike="noStrike">
                <a:solidFill>
                  <a:srgbClr val="38abed"/>
                </a:solidFill>
                <a:latin typeface="Trebuchet MS"/>
              </a:rPr>
              <a:t>31/07/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05966-1E50-4BF5-BAC4-4CF9AFE2351E}" type="slidenum">
              <a:rPr b="0" lang="de-DE"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15" name="Picture 13" descr="Overlay-ContentSlides.png"/>
          <p:cNvPicPr/>
          <p:nvPr/>
        </p:nvPicPr>
        <p:blipFill>
          <a:blip r:embed="rId2"/>
          <a:stretch/>
        </p:blipFill>
        <p:spPr>
          <a:xfrm>
            <a:off x="150840" y="187200"/>
            <a:ext cx="8827920" cy="6481800"/>
          </a:xfrm>
          <a:prstGeom prst="rect">
            <a:avLst/>
          </a:prstGeom>
          <a:ln w="0">
            <a:noFill/>
          </a:ln>
        </p:spPr>
      </p:pic>
      <p:sp>
        <p:nvSpPr>
          <p:cNvPr id="216"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8" name="Straight Connector 14"/>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9" name="Straight Connector 15"/>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28DC5-4990-4955-9DEB-EE29E6452E97}" type="datetime">
              <a:rPr b="0" lang="it-IT" sz="1200" spc="-1" strike="noStrike">
                <a:solidFill>
                  <a:srgbClr val="38abed"/>
                </a:solidFill>
                <a:latin typeface="Trebuchet MS"/>
              </a:rPr>
              <a:t>31/07/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D7656-3E4C-48B6-AADE-696A78629EBD}" type="slidenum">
              <a:rPr b="0" lang="de-DE"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9FD51F-0DA5-4533-9B70-1F9D9FF17889}" type="datetime">
              <a:rPr b="0" lang="it-IT" sz="1200" spc="-1" strike="noStrike">
                <a:solidFill>
                  <a:srgbClr val="38abed"/>
                </a:solidFill>
                <a:latin typeface="Trebuchet MS"/>
              </a:rPr>
              <a:t>31/07/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1A6DCD-33F3-494F-8C2E-61F4DA838D1F}" type="slidenum">
              <a:rPr b="0" lang="de-DE"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73BD04-E77D-48A1-BFD0-911CF3B368E6}" type="datetime">
              <a:rPr b="0" lang="it-IT" sz="1200" spc="-1" strike="noStrike">
                <a:solidFill>
                  <a:srgbClr val="38abed"/>
                </a:solidFill>
                <a:latin typeface="Trebuchet MS"/>
              </a:rPr>
              <a:t>31/07/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59D37-EA11-4DD4-A54E-63FE73853A3E}" type="slidenum">
              <a:rPr b="0" lang="de-DE"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7A4733-B82C-4BCD-8EF6-161C4F99E234}" type="datetime">
              <a:rPr b="0" lang="it-IT" sz="1200" spc="-1" strike="noStrike">
                <a:solidFill>
                  <a:srgbClr val="38abed"/>
                </a:solidFill>
                <a:latin typeface="Trebuchet MS"/>
              </a:rPr>
              <a:t>31/07/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E9AA6-28A7-4384-8DB0-096285F926E8}" type="slidenum">
              <a:rPr b="0" lang="de-DE"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1599840" y="2492280"/>
            <a:ext cx="6762600" cy="14702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rebuchet MS"/>
              </a:rPr>
              <a:t>MMI</a:t>
            </a:r>
            <a:endParaRPr b="0" lang="en-US" sz="4400" spc="-1" strike="noStrike">
              <a:solidFill>
                <a:srgbClr val="ffffff"/>
              </a:solidFill>
              <a:latin typeface="Trebuchet MS"/>
            </a:endParaRPr>
          </a:p>
        </p:txBody>
      </p:sp>
      <p:sp>
        <p:nvSpPr>
          <p:cNvPr id="735" name="PlaceHolder 2"/>
          <p:cNvSpPr>
            <a:spLocks noGrp="1"/>
          </p:cNvSpPr>
          <p:nvPr>
            <p:ph type="subTitle"/>
          </p:nvPr>
        </p:nvSpPr>
        <p:spPr>
          <a:xfrm>
            <a:off x="1599840" y="3967200"/>
            <a:ext cx="6762600" cy="175248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rebuchet MS"/>
              </a:rPr>
              <a:t>Übung 6</a:t>
            </a:r>
            <a:endParaRPr b="0" lang="en-US" sz="1800" spc="-1" strike="noStrike">
              <a:solidFill>
                <a:srgbClr val="ffffff"/>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rebuchet MS"/>
              </a:rPr>
              <a:t>Gruppe 1</a:t>
            </a:r>
            <a:endParaRPr b="0" lang="en-US" sz="1800" spc="-1" strike="noStrike">
              <a:solidFill>
                <a:srgbClr val="ffffff"/>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rebuchet MS"/>
              </a:rPr>
              <a:t>Heuristic Evaluation</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ffffff"/>
                </a:solidFill>
                <a:latin typeface="Trebuchet MS"/>
              </a:rPr>
              <a:t>Szenario 2: Silvester</a:t>
            </a:r>
            <a:endParaRPr b="0" lang="en-US" sz="3800" spc="-1" strike="noStrike">
              <a:solidFill>
                <a:srgbClr val="ffffff"/>
              </a:solidFill>
              <a:latin typeface="Trebuchet MS"/>
            </a:endParaRPr>
          </a:p>
        </p:txBody>
      </p:sp>
      <p:sp>
        <p:nvSpPr>
          <p:cNvPr id="737"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Trebuchet MS"/>
              </a:rPr>
              <a:t>Benutztes Handy: Sony Ericsson T303</a:t>
            </a:r>
            <a:endParaRPr b="0" lang="en-US" sz="2200" spc="-1" strike="noStrike">
              <a:solidFill>
                <a:srgbClr val="ffffff"/>
              </a:solidFill>
              <a:latin typeface="Trebuchet MS"/>
            </a:endParaRPr>
          </a:p>
        </p:txBody>
      </p:sp>
      <p:pic>
        <p:nvPicPr>
          <p:cNvPr id="738" name="Immagine 3" descr="sony ericsson t303.jpg"/>
          <p:cNvPicPr/>
          <p:nvPr/>
        </p:nvPicPr>
        <p:blipFill>
          <a:blip r:embed="rId1"/>
          <a:stretch/>
        </p:blipFill>
        <p:spPr>
          <a:xfrm>
            <a:off x="2116080" y="2776680"/>
            <a:ext cx="4148280" cy="326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ffffff"/>
                </a:solidFill>
                <a:latin typeface="Trebuchet MS"/>
              </a:rPr>
              <a:t>Durchführung</a:t>
            </a:r>
            <a:endParaRPr b="0" lang="en-US" sz="3800" spc="-1" strike="noStrike">
              <a:solidFill>
                <a:srgbClr val="ffffff"/>
              </a:solidFill>
              <a:latin typeface="Trebuchet MS"/>
            </a:endParaRPr>
          </a:p>
        </p:txBody>
      </p:sp>
      <p:sp>
        <p:nvSpPr>
          <p:cNvPr id="740"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Unerfahrener Benutzer</a:t>
            </a: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Videoaufzeichnung &amp; Fotos</a:t>
            </a: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741" name="Immagine 3" descr="DSC00654.JPG"/>
          <p:cNvPicPr/>
          <p:nvPr/>
        </p:nvPicPr>
        <p:blipFill>
          <a:blip r:embed="rId1"/>
          <a:stretch/>
        </p:blipFill>
        <p:spPr>
          <a:xfrm>
            <a:off x="1828800" y="2890800"/>
            <a:ext cx="4800600" cy="360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ffffff"/>
                </a:solidFill>
                <a:latin typeface="Trebuchet MS"/>
              </a:rPr>
              <a:t>Video</a:t>
            </a:r>
            <a:endParaRPr b="0" lang="en-US" sz="3800" spc="-1" strike="noStrike">
              <a:solidFill>
                <a:srgbClr val="ffffff"/>
              </a:solidFill>
              <a:latin typeface="Trebuchet MS"/>
            </a:endParaRPr>
          </a:p>
        </p:txBody>
      </p:sp>
      <p:pic>
        <p:nvPicPr>
          <p:cNvPr id="743" name="Mac Daniel:Users:dfritsch86:Documents:Studium:Semester IV:Mensch Maschine Interaktion:Übung:Blatt06:MMI6:1245060867_1_klein1.avi" descr="/Users/dfritsch86/Documents/Studium/Semester IV/Mensch Maschine Interaktion/Übung/Blatt06/MMI6/1245060867_1_klein1.avi"/>
          <p:cNvPicPr/>
          <p:nvPr/>
        </p:nvPicPr>
        <p:blipFill>
          <a:blip r:embed="rId1"/>
          <a:stretch/>
        </p:blipFill>
        <p:spPr>
          <a:xfrm>
            <a:off x="1765440" y="1828800"/>
            <a:ext cx="5611680" cy="420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43"/>
                    </p:tgtEl>
                  </p:cond>
                </p:stCondLst>
                <p:childTnLst>
                  <p:par>
                    <p:cTn id="3" fill="hold">
                      <p:stCondLst>
                        <p:cond evt="onClick">
                          <p:tgtEl>
                            <p:spTgt spid="74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ffffff"/>
                </a:solidFill>
                <a:latin typeface="Trebuchet MS"/>
              </a:rPr>
              <a:t>Heuristische Auswertung</a:t>
            </a:r>
            <a:endParaRPr b="0" lang="en-US" sz="3800" spc="-1" strike="noStrike">
              <a:solidFill>
                <a:srgbClr val="ffffff"/>
              </a:solidFill>
              <a:latin typeface="Trebuchet MS"/>
            </a:endParaRPr>
          </a:p>
        </p:txBody>
      </p:sp>
      <p:sp>
        <p:nvSpPr>
          <p:cNvPr id="745" name=""/>
          <p:cNvSpPr txBox="1"/>
          <p:nvPr/>
        </p:nvSpPr>
        <p:spPr>
          <a:xfrm>
            <a:off x="779040" y="1828800"/>
            <a:ext cx="7583400" cy="4208400"/>
          </a:xfrm>
          <a:prstGeom prst="rect">
            <a:avLst/>
          </a:prstGeom>
          <a:noFill/>
          <a:ln w="0">
            <a:noFill/>
          </a:ln>
        </p:spPr>
        <p:txBody>
          <a:bodyPr anchor="t">
            <a:normAutofit/>
          </a:bodyPr>
          <a:p>
            <a:pPr marL="282600" indent="-2826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rebuchet MS"/>
              </a:rPr>
              <a:t>Hauptmenü “erschlägt” unerfahrenen Nutzer mit Informationen und Bildern. Anfangs ist nicht bekannt welches Bild für welchen Menüpunkt steht, sodass man alla Menüpunkte anfahren muss um zu erfahren wofür das icon steht.</a:t>
            </a:r>
            <a:endParaRPr b="0" lang="en-US" sz="2000" spc="-1" strike="noStrike">
              <a:solidFill>
                <a:srgbClr val="ffffff"/>
              </a:solidFill>
              <a:latin typeface="Trebuchet MS"/>
            </a:endParaRPr>
          </a:p>
          <a:p>
            <a:pPr marL="282600" indent="-2826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rebuchet MS"/>
              </a:rPr>
              <a:t>Auf Grund der Heuristischen Analyse ist aufgefallen dass das Handy keine deutlich erkennbare Shortcuts hat.</a:t>
            </a:r>
            <a:endParaRPr b="0" lang="en-US" sz="2000" spc="-1" strike="noStrike">
              <a:solidFill>
                <a:srgbClr val="ffffff"/>
              </a:solidFill>
              <a:latin typeface="Trebuchet MS"/>
            </a:endParaRPr>
          </a:p>
          <a:p>
            <a:pPr marL="282600" indent="-2826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rebuchet MS"/>
              </a:rPr>
              <a:t>Fehlermeldung haben keine akustische Signale und es wird nicht auf die Ursache des Fehlers hingewiesen</a:t>
            </a:r>
            <a:endParaRPr b="0" lang="en-US" sz="2000" spc="-1" strike="noStrike">
              <a:solidFill>
                <a:srgbClr val="ffffff"/>
              </a:solidFill>
              <a:latin typeface="Trebuchet MS"/>
            </a:endParaRPr>
          </a:p>
          <a:p>
            <a:pPr marL="282600" indent="-2826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rebuchet MS"/>
              </a:rPr>
              <a:t>Ansonsten keine weitere Probleme aufgefallen, die aufs Handy zurückzuführen wären (die Fehler bei der Durchführung sind eher Nutzerbedingt gewesen)</a:t>
            </a:r>
            <a:endParaRPr b="0" lang="en-US" sz="2000" spc="-1" strike="noStrike">
              <a:solidFill>
                <a:srgbClr val="ffffff"/>
              </a:solidFill>
              <a:latin typeface="Trebuchet MS"/>
            </a:endParaRPr>
          </a:p>
          <a:p>
            <a:pPr marL="282600" indent="-2826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11:33:30Z</dcterms:created>
  <dc:creator>Daniel Fritsch</dc:creator>
  <dc:description/>
  <dc:language>en-US</dc:language>
  <cp:lastModifiedBy>Daniel Fritsch</cp:lastModifiedBy>
  <dcterms:modified xsi:type="dcterms:W3CDTF">2009-06-16T06:12:48Z</dcterms:modified>
  <cp:revision>2</cp:revision>
  <dc:subject/>
  <dc:title>MMI</dc:title>
</cp:coreProperties>
</file>